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Browallia New"/>
              </a:rPr>
              <a:t>Click to move the slide</a:t>
            </a:r>
            <a:endParaRPr b="1" lang="en-US" sz="54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70CF-9E60-4BAE-BC38-19104AC24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013E-A551-486A-9E51-D210160C3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3CD-22B1-4AD5-B84C-6FB296A3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D94-74B4-4D9D-B238-B165AD9C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EDD-9774-4993-8995-86225585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239-35FB-44A8-B72C-CC9CAFFB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6F9-FADB-4855-9867-4BE436E5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365-58E4-48A6-93B5-3071ED24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E80-FD1B-4DC1-B2C7-C64E5DD0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783-834B-43E6-B924-7B596533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DDD-866D-4277-A44C-8DC4C71C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0B0-40E6-4CBA-97D0-E076000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26B-41F7-404B-A07C-C092365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A31-2D05-4619-84C1-B42B2AEB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lick to edit the title text format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spcBef>
                <a:spcPts val="9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2" marL="878760" indent="-261360">
              <a:spcBef>
                <a:spcPts val="9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3" marL="1140120" indent="-259920">
              <a:spcBef>
                <a:spcPts val="9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4" marL="1422720" indent="-281160">
              <a:spcBef>
                <a:spcPts val="9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5" marL="1422720" indent="-281160">
              <a:spcBef>
                <a:spcPts val="9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6" marL="1422720" indent="-281160">
              <a:spcBef>
                <a:spcPts val="9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894-C721-42C8-8B1D-8385E1519E70}" type="slidenum">
              <a: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Browallia New"/>
              </a:rPr>
              <a:t>Click to edit the title text format</a:t>
            </a:r>
            <a:endParaRPr b="1" lang="en-US" sz="5400" spc="-1" strike="noStrike">
              <a:solidFill>
                <a:srgbClr val="330066"/>
              </a:solidFill>
              <a:latin typeface="Browallia New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7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lvl="1" marL="344520"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2" marL="693720" algn="ctr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3" marL="988920" algn="ctr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4" marL="1282680" algn="ctr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5" marL="12826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6" marL="12826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0066"/>
                </a:solidFill>
                <a:latin typeface="Browallia New"/>
              </a:rPr>
              <a:t>องค์ประกอบของระบบคอมพิวเตอร์</a:t>
            </a:r>
            <a:endParaRPr b="1" lang="en-US" sz="54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530528  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การประเมินประสิทธิภาพของคอมพิวเตอร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อ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.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ดร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.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ณัฐวุฒิ หนูไพโรจน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ภาควิชาวิศวกรรมคอมพิวเตอร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จุฬาลงกรณ์มหาวิทยาลัย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62120" y="762120"/>
          <a:ext cx="764352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64352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2C0-4C5E-431E-A336-8360333D2C7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762120" y="838080"/>
          <a:ext cx="766584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66584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5F7-1A82-4CEB-91BE-6E0DEA1BCD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Pipelining Lessons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792440"/>
          <a:ext cx="403380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92440"/>
                    <a:ext cx="403380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52640" y="1980720"/>
            <a:ext cx="4033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Pipelining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ไม่ได้ทำให้งาน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งานเสร็จเร็วขึ้น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แต่ทำให้ทำงานได้มากขึ้นในช่วงเวลาที่เท่ากัน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F97-E7C8-46E5-8299-4A6EEF8386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Pipelining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ใน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PU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ยุคใหม่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c = 0;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r := memory[pc++]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Fetch the instruction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ode(i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Decode the instruction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tch(operands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Fetch the operands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ut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Execute the instruction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re(results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store the results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while(ir != HALT);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90560" y="4952880"/>
            <a:ext cx="7506360" cy="703800"/>
            <a:chOff x="790560" y="4952880"/>
            <a:chExt cx="7506360" cy="703800"/>
          </a:xfrm>
        </p:grpSpPr>
        <p:sp>
          <p:nvSpPr>
            <p:cNvPr id="185" name=""/>
            <p:cNvSpPr/>
            <p:nvPr/>
          </p:nvSpPr>
          <p:spPr>
            <a:xfrm>
              <a:off x="790560" y="5003640"/>
              <a:ext cx="826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Fet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09680" y="5003640"/>
              <a:ext cx="11426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De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4952880"/>
              <a:ext cx="12949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Oper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Fet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5000" y="5003640"/>
              <a:ext cx="12186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Execu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2240" y="5003640"/>
              <a:ext cx="8146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6160" y="5181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52680" y="5181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81480" y="5181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33960" y="5181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1DD-E94A-43ED-9789-D36D760795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Pipelining Execution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1   2   3   4   5   6   7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st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F   D   O   E   S 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st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F   D   O   E   S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st 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F   D   O   E   S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666880" y="2590920"/>
            <a:ext cx="3810240" cy="457200"/>
            <a:chOff x="2666880" y="2590920"/>
            <a:chExt cx="3810240" cy="457200"/>
          </a:xfrm>
        </p:grpSpPr>
        <p:sp>
          <p:nvSpPr>
            <p:cNvPr id="197" name=""/>
            <p:cNvSpPr/>
            <p:nvPr/>
          </p:nvSpPr>
          <p:spPr>
            <a:xfrm>
              <a:off x="2666880" y="25909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29000" y="25909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25909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25909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15000" y="25909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429000" y="3048120"/>
            <a:ext cx="3809520" cy="457200"/>
            <a:chOff x="3429000" y="3048120"/>
            <a:chExt cx="3809520" cy="457200"/>
          </a:xfrm>
        </p:grpSpPr>
        <p:sp>
          <p:nvSpPr>
            <p:cNvPr id="203" name=""/>
            <p:cNvSpPr/>
            <p:nvPr/>
          </p:nvSpPr>
          <p:spPr>
            <a:xfrm>
              <a:off x="3429000" y="30481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0760" y="30481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52880" y="3048120"/>
              <a:ext cx="761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4640" y="30481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76760" y="30481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191120" y="3505320"/>
            <a:ext cx="3809520" cy="457200"/>
            <a:chOff x="4191120" y="3505320"/>
            <a:chExt cx="3809520" cy="457200"/>
          </a:xfrm>
        </p:grpSpPr>
        <p:sp>
          <p:nvSpPr>
            <p:cNvPr id="209" name=""/>
            <p:cNvSpPr/>
            <p:nvPr/>
          </p:nvSpPr>
          <p:spPr>
            <a:xfrm>
              <a:off x="4191120" y="35053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52880" y="35053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15000" y="3505320"/>
              <a:ext cx="761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76760" y="35053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8880" y="35053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B94-2121-4713-B5A6-9D4CF72677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ประสิทธิภาพของ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Pipeline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ถ้าเรารันโปรแกรมที่มี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1000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คำสั่งบน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non-pipelined CPU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และ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pipelined CPU.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กำหนดให้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lock speed = 1 GHz (1 clock = 1 ns.)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non-pipelined CPU: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เวลา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= 1ns/cycle x 5 cycles/inst x 1000 instr. = 5 ms.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Perfect pipelined CPU: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เวลา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= 1ns/cycle x (1 cycle/inst x 1000 instr. + 4 cycles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เริ่มต้น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   = 1.004 ms.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529-D224-4732-A4B5-EA2025DD0B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ระบบหน่วยความจำ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648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การทำงานของหน่วยความจำ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Access time.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Refresh rate.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429000" y="3048120"/>
          <a:ext cx="5257800" cy="2800080"/>
        </p:xfrm>
        <a:graphic>
          <a:graphicData uri="http://schemas.openxmlformats.org/drawingml/2006/table">
            <a:tbl>
              <a:tblPr/>
              <a:tblGrid>
                <a:gridCol w="1752840"/>
                <a:gridCol w="2011320"/>
                <a:gridCol w="1493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Techn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Typical access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$/MBy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S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-25 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$100-$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0-120 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$5-$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Magnetic Di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-20 million 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$0.10-$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3AB-8C63-4052-9A62-A1AB9AD070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ตำแหน่งของหน่วยความจำในระบบ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93800" y="2286000"/>
          <a:ext cx="395640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3800" y="2286000"/>
                    <a:ext cx="39564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615-438F-4CCE-A5DD-6B3D2B5AE44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ลำดับชั้นหน่วยความจำ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37280" cy="3125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ยิ่งใกล้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CPU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ยิ่งเร็ว และมีขนาดเล็ก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FF4-B47F-4B65-83F4-97BBED9783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ache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Browallia New"/>
              </a:rPr>
              <a:t>Hit –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ถ้าเจอข้อมูลที่ต้องการใน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cache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Browallia New"/>
              </a:rPr>
              <a:t>Miss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–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ถ้าไม่เจอข้อมูลที่ต้องการใน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cache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และต้องไปดึงมาจากหน่วยความจำลำดับต่อไป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Browallia New"/>
              </a:rPr>
              <a:t>Hit Rate (hit ratio)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 –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สัดส่วนของจำนวนครั้งที่ดึงข้อมูลแล้ว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hit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ต่อการดึงทั้งหมด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Browallia New"/>
              </a:rPr>
              <a:t>Miss Rate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 –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สัดส่วนของจำนวนครั้งที่ดึงข้อมูลแล้ว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miss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ต่อการดึงทั้งหมด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Browallia New"/>
              </a:rPr>
              <a:t>Hit Time –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เวลาที่ใช้ในการดึงข้อมูลจาก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ache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เมื่อ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hit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Browallia New"/>
              </a:rPr>
              <a:t>Miss Penalty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–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เวลาที่ใช้ในการดึงข้อมูลจาก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ache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เมื่อ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miss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DF6-B102-4AAD-A073-22CDE2640F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หัวข้อการบรรยาย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ภาพรวมของระบบ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หน่วยประมวลผลกลาง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ระบบหน่วยความจำ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ระบบหน่วยความจำสำรอง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ระบบปฏิบัติการ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Browallia New"/>
              </a:rPr>
              <a:t>ระบบเครือข่าย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B0B-E7A2-46D8-BEE5-1CFD800C5A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การทำงานของ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ache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354480" cy="35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068-0156-4A9C-A3E7-F06FE515E9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Hits vs. Misses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4440" y="1866600"/>
            <a:ext cx="3744000" cy="411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อ่า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hit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01680" indent="-3016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01680" indent="-3016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อ่า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miss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53760" indent="-25128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PU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จะต้องรอเนื่องจากดึงทั้ง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block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ของ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memory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มาใส่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ache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แล้วจึงส่งข้อมูลให้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PU 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เขีย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hit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588240" indent="-2955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เขียนลงทั้ง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ache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และ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memory (write-through)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588240" indent="-2955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เขียนลง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ache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อย่างเดียวก่อน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(write-back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เขีย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miss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588240" indent="-2955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ดึงทั้ง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block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ของ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memory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มาใส่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cache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แล้วจึงเขียนข้อมูล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C8B-D376-4C85-AE04-D958EA847B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ประสิทธิภาพของ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ache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Browallia New"/>
              </a:rPr>
              <a:t>Hit rate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 =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จำนวนครั้งที่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hit /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จำนวนครั้งที่ดึงข้อมูล</a:t>
            </a:r>
            <a:br>
              <a:rPr sz="3800"/>
            </a:b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          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= 1 - miss rate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800" spc="-1" strike="noStrike">
                <a:solidFill>
                  <a:srgbClr val="000000"/>
                </a:solidFill>
                <a:latin typeface="Browallia New"/>
              </a:rPr>
              <a:t>เวลาที่ใช้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= hit time * hit rate + (1- hit rate) * miss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 penalty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CE1-0489-428F-A0F0-4207FE4513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สรุปลำดับชั้นหน่วยความจำ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14800" cy="37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9FB-4FCF-4582-A2F6-8E8E24946A5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ระบบ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Disk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543200" cy="35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FA9-6BCA-45E3-9F9D-BC1BDED2A2A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ตำแหน่งของ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Disk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93800" y="2286000"/>
          <a:ext cx="395640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3800" y="2286000"/>
                    <a:ext cx="39564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C85-10A2-46FD-BFEE-09922AA5FA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ประสิทธิภาพของ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Disk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ขึ้นกับ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disk rotation speed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และ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disk cache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294840" indent="-29484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Browallia New"/>
              </a:rPr>
              <a:t>Seek time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–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เวลาที่ใช้ในการเข้าถึง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ctor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ที่ต้องการ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294840" indent="-29484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Browallia New"/>
              </a:rPr>
              <a:t>Transfer rate</a:t>
            </a:r>
            <a:r>
              <a:rPr b="0" i="1" lang="en-US" sz="38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–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ความสามารถในการส่งข้อมูลให้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CPU (Mbytes/sec)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294840" indent="-29484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เวลาที่ใช้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= seek time +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ขนาดข้อมูล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/ transfer rate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FD4-AB54-4E09-84EA-CF5513AB60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700" spc="-1" strike="noStrike">
                <a:solidFill>
                  <a:srgbClr val="330066"/>
                </a:solidFill>
                <a:latin typeface="Browallia New"/>
              </a:rPr>
              <a:t>ระบบเครือข่าย</a:t>
            </a:r>
            <a:endParaRPr b="1" lang="en-US" sz="47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Browallia New"/>
              </a:rPr>
              <a:t>network edge: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applications and hosts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81160" indent="-28116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Browallia New"/>
              </a:rPr>
              <a:t>network core: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09120" indent="-2343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routers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09120" indent="-2343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network of networks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281160" indent="-28116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Browallia New"/>
              </a:rPr>
              <a:t>access networks, physical media: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communication links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46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258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262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271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281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290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295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314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317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320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324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333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354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360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364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368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374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378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382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388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392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396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406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410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416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420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424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434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438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444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448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452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7e9c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458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462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 flipV="1">
            <a:off x="6200640" y="4389120"/>
            <a:ext cx="180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265-9B41-46D8-9099-9398B26814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การทำงานขั้นพื้นฐ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การทำ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routing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การส่งข้อมูล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การสูญหาย และการเสียเวลา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575240" y="1542960"/>
            <a:ext cx="4182840" cy="4489560"/>
            <a:chOff x="4575240" y="1542960"/>
            <a:chExt cx="4182840" cy="4489560"/>
          </a:xfrm>
        </p:grpSpPr>
        <p:sp>
          <p:nvSpPr>
            <p:cNvPr id="469" name=""/>
            <p:cNvSpPr/>
            <p:nvPr/>
          </p:nvSpPr>
          <p:spPr>
            <a:xfrm>
              <a:off x="6711840" y="1717560"/>
              <a:ext cx="2046240" cy="20494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75240" y="1542960"/>
              <a:ext cx="2122560" cy="19432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4280" y="3317760"/>
              <a:ext cx="3382920" cy="271476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708440" y="1708200"/>
              <a:ext cx="834840" cy="390600"/>
              <a:chOff x="4708440" y="1708200"/>
              <a:chExt cx="834840" cy="390600"/>
            </a:xfrm>
          </p:grpSpPr>
          <p:pic>
            <p:nvPicPr>
              <p:cNvPr id="4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08440" y="170820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25040" y="185292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 flipV="1">
                <a:off x="5171040" y="200412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708440" y="2436840"/>
              <a:ext cx="834840" cy="390600"/>
              <a:chOff x="4708440" y="2436840"/>
              <a:chExt cx="834840" cy="390600"/>
            </a:xfrm>
          </p:grpSpPr>
          <p:pic>
            <p:nvPicPr>
              <p:cNvPr id="4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08440" y="243684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25040" y="258156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 flipV="1">
                <a:off x="5171040" y="273276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137200" y="2176560"/>
              <a:ext cx="78840" cy="261360"/>
              <a:chOff x="5137200" y="2176560"/>
              <a:chExt cx="78840" cy="261360"/>
            </a:xfrm>
          </p:grpSpPr>
          <p:sp>
            <p:nvSpPr>
              <p:cNvPr id="481" name=""/>
              <p:cNvSpPr/>
              <p:nvPr/>
            </p:nvSpPr>
            <p:spPr>
              <a:xfrm>
                <a:off x="5137200" y="2176560"/>
                <a:ext cx="72720" cy="738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40080" y="2270520"/>
                <a:ext cx="72720" cy="7344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143320" y="2364480"/>
                <a:ext cx="72720" cy="7344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5670720" y="2792520"/>
              <a:ext cx="237960" cy="482040"/>
              <a:chOff x="5670720" y="2792520"/>
              <a:chExt cx="237960" cy="482040"/>
            </a:xfrm>
          </p:grpSpPr>
          <p:sp>
            <p:nvSpPr>
              <p:cNvPr id="485" name=""/>
              <p:cNvSpPr/>
              <p:nvPr/>
            </p:nvSpPr>
            <p:spPr>
              <a:xfrm>
                <a:off x="5670720" y="316332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791320" y="2795400"/>
                <a:ext cx="109440" cy="37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72160" y="2900520"/>
                <a:ext cx="150840" cy="37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670720" y="279252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908680" y="2800080"/>
                <a:ext cx="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5823000" y="3163320"/>
                <a:ext cx="856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91240" y="2949480"/>
                <a:ext cx="100080" cy="21348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705640" y="3013920"/>
                <a:ext cx="75960" cy="7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5940360" y="2980080"/>
              <a:ext cx="265320" cy="99720"/>
              <a:chOff x="5940360" y="2980080"/>
              <a:chExt cx="265320" cy="99720"/>
            </a:xfrm>
          </p:grpSpPr>
          <p:sp>
            <p:nvSpPr>
              <p:cNvPr id="494" name=""/>
              <p:cNvSpPr/>
              <p:nvPr/>
            </p:nvSpPr>
            <p:spPr>
              <a:xfrm rot="16200000">
                <a:off x="5931720" y="2996280"/>
                <a:ext cx="91800" cy="7488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6200000">
                <a:off x="6027120" y="2992680"/>
                <a:ext cx="91800" cy="74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6200000">
                <a:off x="6122520" y="2988720"/>
                <a:ext cx="91800" cy="74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826240" y="2679840"/>
              <a:ext cx="56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29480" y="2674800"/>
              <a:ext cx="288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92880" y="2673360"/>
              <a:ext cx="1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84960" y="2019240"/>
              <a:ext cx="32832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5499000" y="2368440"/>
              <a:ext cx="31428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6099120" y="2473200"/>
              <a:ext cx="180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234120" y="2763720"/>
              <a:ext cx="237960" cy="483840"/>
              <a:chOff x="6234120" y="2763720"/>
              <a:chExt cx="237960" cy="483840"/>
            </a:xfrm>
          </p:grpSpPr>
          <p:sp>
            <p:nvSpPr>
              <p:cNvPr id="504" name=""/>
              <p:cNvSpPr/>
              <p:nvPr/>
            </p:nvSpPr>
            <p:spPr>
              <a:xfrm>
                <a:off x="6234120" y="313596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54720" y="2766600"/>
                <a:ext cx="109440" cy="371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35560" y="2872080"/>
                <a:ext cx="150840" cy="372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34120" y="276372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472080" y="2771280"/>
                <a:ext cx="0" cy="36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6386400" y="3135960"/>
                <a:ext cx="8568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54640" y="2921400"/>
                <a:ext cx="100080" cy="21456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269040" y="2985840"/>
                <a:ext cx="75960" cy="7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145120" y="3521160"/>
              <a:ext cx="546120" cy="1132920"/>
              <a:chOff x="5145120" y="3521160"/>
              <a:chExt cx="546120" cy="1132920"/>
            </a:xfrm>
          </p:grpSpPr>
          <p:pic>
            <p:nvPicPr>
              <p:cNvPr id="51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45120" y="352116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 flipV="1">
                <a:off x="5608440" y="3823200"/>
                <a:ext cx="8280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45120" y="424908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 flipV="1">
                <a:off x="5608440" y="4555800"/>
                <a:ext cx="828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288040" y="3939120"/>
                <a:ext cx="81000" cy="272160"/>
                <a:chOff x="5288040" y="3939120"/>
                <a:chExt cx="81000" cy="2721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288040" y="3939120"/>
                  <a:ext cx="74520" cy="7668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291280" y="4037040"/>
                  <a:ext cx="74520" cy="7632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294520" y="4134960"/>
                  <a:ext cx="74520" cy="7632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5684760" y="3819600"/>
                <a:ext cx="0" cy="73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2" name="" descr=""/>
            <p:cNvPicPr/>
            <p:nvPr/>
          </p:nvPicPr>
          <p:blipFill>
            <a:blip r:embed="rId7"/>
            <a:stretch/>
          </p:blipFill>
          <p:spPr>
            <a:xfrm>
              <a:off x="6132600" y="4756320"/>
              <a:ext cx="4762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8"/>
            <a:stretch/>
          </p:blipFill>
          <p:spPr>
            <a:xfrm>
              <a:off x="5433840" y="4743360"/>
              <a:ext cx="4734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 rot="16200000">
              <a:off x="5906160" y="4872600"/>
              <a:ext cx="76320" cy="74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6002280" y="4870440"/>
              <a:ext cx="77760" cy="74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6200000">
              <a:off x="6090120" y="4875840"/>
              <a:ext cx="76320" cy="74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421320" y="4690800"/>
              <a:ext cx="32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711760" y="4676760"/>
              <a:ext cx="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5715000" y="468468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691240" y="4225680"/>
              <a:ext cx="1062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75240" y="4282920"/>
              <a:ext cx="34452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7280280" y="4278240"/>
              <a:ext cx="31752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9"/>
            <a:stretch/>
          </p:blipFill>
          <p:spPr>
            <a:xfrm>
              <a:off x="7481880" y="3732120"/>
              <a:ext cx="23184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5961240" y="3830760"/>
              <a:ext cx="23148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6053040" y="3554280"/>
              <a:ext cx="1540080" cy="37332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6356520" y="5294160"/>
              <a:ext cx="462960" cy="522000"/>
              <a:chOff x="6356520" y="5294160"/>
              <a:chExt cx="462960" cy="522000"/>
            </a:xfrm>
          </p:grpSpPr>
          <p:pic>
            <p:nvPicPr>
              <p:cNvPr id="53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56520" y="5294160"/>
                <a:ext cx="43128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24560" y="5430960"/>
                <a:ext cx="394920" cy="385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9" name=""/>
            <p:cNvGrpSpPr/>
            <p:nvPr/>
          </p:nvGrpSpPr>
          <p:grpSpPr>
            <a:xfrm>
              <a:off x="7242120" y="5334120"/>
              <a:ext cx="461520" cy="521640"/>
              <a:chOff x="7242120" y="5334120"/>
              <a:chExt cx="461520" cy="521640"/>
            </a:xfrm>
          </p:grpSpPr>
          <p:pic>
            <p:nvPicPr>
              <p:cNvPr id="54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42120" y="5334120"/>
                <a:ext cx="429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10160" y="5470920"/>
                <a:ext cx="393480" cy="384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2" name=""/>
            <p:cNvGrpSpPr/>
            <p:nvPr/>
          </p:nvGrpSpPr>
          <p:grpSpPr>
            <a:xfrm>
              <a:off x="6770520" y="4986360"/>
              <a:ext cx="432000" cy="460080"/>
              <a:chOff x="6770520" y="4986360"/>
              <a:chExt cx="432000" cy="460080"/>
            </a:xfrm>
          </p:grpSpPr>
          <p:pic>
            <p:nvPicPr>
              <p:cNvPr id="54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770520" y="4986360"/>
                <a:ext cx="43200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>
                <a:off x="6896160" y="5148000"/>
                <a:ext cx="304560" cy="298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7118280" y="486720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7939080" y="4162320"/>
              <a:ext cx="236520" cy="501480"/>
              <a:chOff x="7939080" y="4162320"/>
              <a:chExt cx="236520" cy="501480"/>
            </a:xfrm>
          </p:grpSpPr>
          <p:sp>
            <p:nvSpPr>
              <p:cNvPr id="547" name=""/>
              <p:cNvSpPr/>
              <p:nvPr/>
            </p:nvSpPr>
            <p:spPr>
              <a:xfrm>
                <a:off x="7939080" y="454788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058600" y="4165560"/>
                <a:ext cx="108720" cy="3852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940160" y="4274640"/>
                <a:ext cx="149760" cy="385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939080" y="416232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75600" y="417024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8090280" y="4547880"/>
                <a:ext cx="8496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959240" y="4325760"/>
                <a:ext cx="99360" cy="22212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973640" y="4392720"/>
                <a:ext cx="7524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7924680" y="4707000"/>
              <a:ext cx="236520" cy="499680"/>
              <a:chOff x="7924680" y="4707000"/>
              <a:chExt cx="236520" cy="499680"/>
            </a:xfrm>
          </p:grpSpPr>
          <p:sp>
            <p:nvSpPr>
              <p:cNvPr id="556" name=""/>
              <p:cNvSpPr/>
              <p:nvPr/>
            </p:nvSpPr>
            <p:spPr>
              <a:xfrm>
                <a:off x="7924680" y="509112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044200" y="4710240"/>
                <a:ext cx="108720" cy="3837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925760" y="4818960"/>
                <a:ext cx="149760" cy="384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924680" y="470700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1200" y="471492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8075880" y="5091120"/>
                <a:ext cx="84960" cy="11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44840" y="4869720"/>
                <a:ext cx="99360" cy="22140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959240" y="4936680"/>
                <a:ext cx="75240" cy="7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flipV="1">
              <a:off x="7846920" y="4246200"/>
              <a:ext cx="0" cy="74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42240" y="4991040"/>
              <a:ext cx="11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39000" y="440856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388200" y="2081160"/>
              <a:ext cx="52056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51640" y="2062080"/>
              <a:ext cx="55260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8042400" y="2473200"/>
              <a:ext cx="27288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65800" y="2198520"/>
              <a:ext cx="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94600" y="2990880"/>
              <a:ext cx="6080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718400" y="3560760"/>
              <a:ext cx="30312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459200" y="2433600"/>
              <a:ext cx="63828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470360" y="1749600"/>
              <a:ext cx="39852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286480" y="1963800"/>
              <a:ext cx="2300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5797440" y="2198520"/>
              <a:ext cx="569880" cy="285480"/>
              <a:chOff x="5797440" y="2198520"/>
              <a:chExt cx="569880" cy="285480"/>
            </a:xfrm>
          </p:grpSpPr>
          <p:sp>
            <p:nvSpPr>
              <p:cNvPr id="577" name=""/>
              <p:cNvSpPr/>
              <p:nvPr/>
            </p:nvSpPr>
            <p:spPr>
              <a:xfrm>
                <a:off x="5801760" y="2325960"/>
                <a:ext cx="565200" cy="1580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01760" y="23126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67320" y="23126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01760" y="2312640"/>
                <a:ext cx="560160" cy="9648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97440" y="2198520"/>
                <a:ext cx="564840" cy="18432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5933160" y="2239200"/>
                <a:ext cx="279720" cy="107640"/>
                <a:chOff x="5933160" y="2239200"/>
                <a:chExt cx="279720" cy="107640"/>
              </a:xfrm>
            </p:grpSpPr>
            <p:sp>
              <p:nvSpPr>
                <p:cNvPr id="583" name=""/>
                <p:cNvSpPr/>
                <p:nvPr/>
              </p:nvSpPr>
              <p:spPr>
                <a:xfrm flipV="1">
                  <a:off x="5933160" y="223920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125040" y="23468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024960" y="22413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33160" y="2237400"/>
                <a:ext cx="279720" cy="107640"/>
                <a:chOff x="5933160" y="2237400"/>
                <a:chExt cx="279720" cy="107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5933160" y="234288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125040" y="22374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6024960" y="223740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0" name=""/>
            <p:cNvGrpSpPr/>
            <p:nvPr/>
          </p:nvGrpSpPr>
          <p:grpSpPr>
            <a:xfrm>
              <a:off x="6880320" y="1919160"/>
              <a:ext cx="571320" cy="285480"/>
              <a:chOff x="6880320" y="1919160"/>
              <a:chExt cx="571320" cy="285480"/>
            </a:xfrm>
          </p:grpSpPr>
          <p:sp>
            <p:nvSpPr>
              <p:cNvPr id="591" name=""/>
              <p:cNvSpPr/>
              <p:nvPr/>
            </p:nvSpPr>
            <p:spPr>
              <a:xfrm>
                <a:off x="6884640" y="2046600"/>
                <a:ext cx="566640" cy="1580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884640" y="203328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451640" y="203328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84640" y="2033280"/>
                <a:ext cx="561600" cy="9648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80320" y="1919160"/>
                <a:ext cx="566280" cy="18432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7016400" y="1959840"/>
                <a:ext cx="280440" cy="107640"/>
                <a:chOff x="7016400" y="1959840"/>
                <a:chExt cx="280440" cy="107640"/>
              </a:xfrm>
            </p:grpSpPr>
            <p:sp>
              <p:nvSpPr>
                <p:cNvPr id="597" name=""/>
                <p:cNvSpPr/>
                <p:nvPr/>
              </p:nvSpPr>
              <p:spPr>
                <a:xfrm flipV="1">
                  <a:off x="7016400" y="195984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208640" y="206748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108560" y="196200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016400" y="1958040"/>
                <a:ext cx="280440" cy="107640"/>
                <a:chOff x="7016400" y="1958040"/>
                <a:chExt cx="280440" cy="1076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7016400" y="206352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208640" y="195804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7108560" y="195804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6900840" y="2724120"/>
              <a:ext cx="569880" cy="285480"/>
              <a:chOff x="6900840" y="2724120"/>
              <a:chExt cx="569880" cy="285480"/>
            </a:xfrm>
          </p:grpSpPr>
          <p:sp>
            <p:nvSpPr>
              <p:cNvPr id="605" name=""/>
              <p:cNvSpPr/>
              <p:nvPr/>
            </p:nvSpPr>
            <p:spPr>
              <a:xfrm>
                <a:off x="6905160" y="2851560"/>
                <a:ext cx="565200" cy="1580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905160" y="28382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470720" y="28382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905160" y="2838240"/>
                <a:ext cx="560160" cy="9648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00840" y="2724120"/>
                <a:ext cx="564840" cy="18432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7036560" y="2764800"/>
                <a:ext cx="279720" cy="107640"/>
                <a:chOff x="7036560" y="2764800"/>
                <a:chExt cx="279720" cy="107640"/>
              </a:xfrm>
            </p:grpSpPr>
            <p:sp>
              <p:nvSpPr>
                <p:cNvPr id="611" name=""/>
                <p:cNvSpPr/>
                <p:nvPr/>
              </p:nvSpPr>
              <p:spPr>
                <a:xfrm flipV="1">
                  <a:off x="7036560" y="276480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228440" y="28724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128360" y="27669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7036560" y="2763000"/>
                <a:ext cx="279720" cy="107640"/>
                <a:chOff x="7036560" y="2763000"/>
                <a:chExt cx="279720" cy="1076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7036560" y="286848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228440" y="27630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7128360" y="276300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"/>
            <p:cNvGrpSpPr/>
            <p:nvPr/>
          </p:nvGrpSpPr>
          <p:grpSpPr>
            <a:xfrm>
              <a:off x="8004240" y="2174760"/>
              <a:ext cx="568440" cy="284040"/>
              <a:chOff x="8004240" y="2174760"/>
              <a:chExt cx="568440" cy="284040"/>
            </a:xfrm>
          </p:grpSpPr>
          <p:sp>
            <p:nvSpPr>
              <p:cNvPr id="619" name=""/>
              <p:cNvSpPr/>
              <p:nvPr/>
            </p:nvSpPr>
            <p:spPr>
              <a:xfrm>
                <a:off x="8008560" y="2301480"/>
                <a:ext cx="563760" cy="15732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008560" y="2288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572680" y="2288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008560" y="2288160"/>
                <a:ext cx="558720" cy="9612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004240" y="2174760"/>
                <a:ext cx="563400" cy="18360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8139600" y="2215080"/>
                <a:ext cx="278640" cy="107280"/>
                <a:chOff x="8139600" y="2215080"/>
                <a:chExt cx="278640" cy="107280"/>
              </a:xfrm>
            </p:grpSpPr>
            <p:sp>
              <p:nvSpPr>
                <p:cNvPr id="625" name=""/>
                <p:cNvSpPr/>
                <p:nvPr/>
              </p:nvSpPr>
              <p:spPr>
                <a:xfrm flipV="1">
                  <a:off x="8139600" y="221508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330760" y="232236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231400" y="221724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8139600" y="2213640"/>
                <a:ext cx="278640" cy="107280"/>
                <a:chOff x="8139600" y="2213640"/>
                <a:chExt cx="278640" cy="10728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8139600" y="231876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330760" y="221364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8231400" y="221364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7783560" y="3271680"/>
              <a:ext cx="569880" cy="284040"/>
              <a:chOff x="7783560" y="3271680"/>
              <a:chExt cx="569880" cy="284040"/>
            </a:xfrm>
          </p:grpSpPr>
          <p:sp>
            <p:nvSpPr>
              <p:cNvPr id="633" name=""/>
              <p:cNvSpPr/>
              <p:nvPr/>
            </p:nvSpPr>
            <p:spPr>
              <a:xfrm>
                <a:off x="7787880" y="3398400"/>
                <a:ext cx="565200" cy="15732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87880" y="338508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353440" y="338508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787880" y="3385080"/>
                <a:ext cx="560160" cy="9612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783560" y="3271680"/>
                <a:ext cx="564840" cy="18360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7919280" y="3312000"/>
                <a:ext cx="279720" cy="107280"/>
                <a:chOff x="7919280" y="3312000"/>
                <a:chExt cx="279720" cy="107280"/>
              </a:xfrm>
            </p:grpSpPr>
            <p:sp>
              <p:nvSpPr>
                <p:cNvPr id="639" name=""/>
                <p:cNvSpPr/>
                <p:nvPr/>
              </p:nvSpPr>
              <p:spPr>
                <a:xfrm flipV="1">
                  <a:off x="7919280" y="331200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111160" y="341928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011080" y="331416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7919280" y="3310560"/>
                <a:ext cx="279720" cy="107280"/>
                <a:chOff x="7919280" y="3310560"/>
                <a:chExt cx="279720" cy="10728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7919280" y="341568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111160" y="33105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8011080" y="331056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7404120" y="3986280"/>
              <a:ext cx="569880" cy="286920"/>
              <a:chOff x="7404120" y="3986280"/>
              <a:chExt cx="569880" cy="286920"/>
            </a:xfrm>
          </p:grpSpPr>
          <p:sp>
            <p:nvSpPr>
              <p:cNvPr id="647" name=""/>
              <p:cNvSpPr/>
              <p:nvPr/>
            </p:nvSpPr>
            <p:spPr>
              <a:xfrm>
                <a:off x="7408440" y="4114440"/>
                <a:ext cx="565200" cy="15876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08440" y="410076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974000" y="410076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408440" y="4100760"/>
                <a:ext cx="560160" cy="9720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404120" y="3986280"/>
                <a:ext cx="564840" cy="18540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7539840" y="4026960"/>
                <a:ext cx="279720" cy="108360"/>
                <a:chOff x="7539840" y="4026960"/>
                <a:chExt cx="279720" cy="108360"/>
              </a:xfrm>
            </p:grpSpPr>
            <p:sp>
              <p:nvSpPr>
                <p:cNvPr id="653" name=""/>
                <p:cNvSpPr/>
                <p:nvPr/>
              </p:nvSpPr>
              <p:spPr>
                <a:xfrm flipV="1">
                  <a:off x="7539840" y="40269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731720" y="41353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631640" y="402912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7539840" y="4025160"/>
                <a:ext cx="279720" cy="108360"/>
                <a:chOff x="7539840" y="4025160"/>
                <a:chExt cx="279720" cy="1083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7539840" y="41313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731720" y="40251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V="1">
                  <a:off x="7631640" y="402516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0" name=""/>
            <p:cNvGrpSpPr/>
            <p:nvPr/>
          </p:nvGrpSpPr>
          <p:grpSpPr>
            <a:xfrm>
              <a:off x="6710400" y="4584600"/>
              <a:ext cx="569880" cy="284040"/>
              <a:chOff x="6710400" y="4584600"/>
              <a:chExt cx="569880" cy="284040"/>
            </a:xfrm>
          </p:grpSpPr>
          <p:sp>
            <p:nvSpPr>
              <p:cNvPr id="661" name=""/>
              <p:cNvSpPr/>
              <p:nvPr/>
            </p:nvSpPr>
            <p:spPr>
              <a:xfrm>
                <a:off x="6714720" y="4711320"/>
                <a:ext cx="565200" cy="15732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714720" y="469800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80280" y="469800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714720" y="4698000"/>
                <a:ext cx="560160" cy="9612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10400" y="4584600"/>
                <a:ext cx="564840" cy="18360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6846120" y="4624920"/>
                <a:ext cx="279720" cy="107280"/>
                <a:chOff x="6846120" y="4624920"/>
                <a:chExt cx="279720" cy="107280"/>
              </a:xfrm>
            </p:grpSpPr>
            <p:sp>
              <p:nvSpPr>
                <p:cNvPr id="667" name=""/>
                <p:cNvSpPr/>
                <p:nvPr/>
              </p:nvSpPr>
              <p:spPr>
                <a:xfrm flipV="1">
                  <a:off x="6846120" y="46249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038000" y="47322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937920" y="462708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6846120" y="4623480"/>
                <a:ext cx="279720" cy="107280"/>
                <a:chOff x="6846120" y="4623480"/>
                <a:chExt cx="279720" cy="10728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6846120" y="472860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038000" y="462348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6937920" y="462348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4" name=""/>
            <p:cNvGrpSpPr/>
            <p:nvPr/>
          </p:nvGrpSpPr>
          <p:grpSpPr>
            <a:xfrm>
              <a:off x="5797440" y="4124160"/>
              <a:ext cx="569880" cy="284040"/>
              <a:chOff x="5797440" y="4124160"/>
              <a:chExt cx="569880" cy="284040"/>
            </a:xfrm>
          </p:grpSpPr>
          <p:sp>
            <p:nvSpPr>
              <p:cNvPr id="675" name=""/>
              <p:cNvSpPr/>
              <p:nvPr/>
            </p:nvSpPr>
            <p:spPr>
              <a:xfrm>
                <a:off x="5801760" y="4250880"/>
                <a:ext cx="565200" cy="15732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01760" y="42375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367320" y="42375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01760" y="4237560"/>
                <a:ext cx="560160" cy="9612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797440" y="4124160"/>
                <a:ext cx="564840" cy="18360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5933160" y="4164480"/>
                <a:ext cx="279720" cy="107280"/>
                <a:chOff x="5933160" y="4164480"/>
                <a:chExt cx="279720" cy="107280"/>
              </a:xfrm>
            </p:grpSpPr>
            <p:sp>
              <p:nvSpPr>
                <p:cNvPr id="681" name=""/>
                <p:cNvSpPr/>
                <p:nvPr/>
              </p:nvSpPr>
              <p:spPr>
                <a:xfrm flipV="1">
                  <a:off x="5933160" y="416448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125040" y="42717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024960" y="41666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5933160" y="4163040"/>
                <a:ext cx="279720" cy="107280"/>
                <a:chOff x="5933160" y="4163040"/>
                <a:chExt cx="279720" cy="10728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5933160" y="42681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125040" y="41630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6024960" y="41630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8" name=""/>
            <p:cNvSpPr/>
            <p:nvPr/>
          </p:nvSpPr>
          <p:spPr>
            <a:xfrm>
              <a:off x="5124600" y="1933560"/>
              <a:ext cx="3038400" cy="3114720"/>
            </a:xfrm>
            <a:custGeom>
              <a:avLst/>
              <a:gdLst/>
              <a:ahLst/>
              <a:rect l="l" t="t" r="r" b="b"/>
              <a:pathLst>
                <a:path w="1914" h="1962">
                  <a:moveTo>
                    <a:pt x="0" y="0"/>
                  </a:moveTo>
                  <a:lnTo>
                    <a:pt x="258" y="12"/>
                  </a:lnTo>
                  <a:lnTo>
                    <a:pt x="426" y="198"/>
                  </a:lnTo>
                  <a:lnTo>
                    <a:pt x="768" y="204"/>
                  </a:lnTo>
                  <a:lnTo>
                    <a:pt x="1086" y="48"/>
                  </a:lnTo>
                  <a:lnTo>
                    <a:pt x="1326" y="48"/>
                  </a:lnTo>
                  <a:lnTo>
                    <a:pt x="1326" y="588"/>
                  </a:lnTo>
                  <a:lnTo>
                    <a:pt x="1890" y="990"/>
                  </a:lnTo>
                  <a:lnTo>
                    <a:pt x="1662" y="1320"/>
                  </a:lnTo>
                  <a:lnTo>
                    <a:pt x="1662" y="1944"/>
                  </a:lnTo>
                  <a:lnTo>
                    <a:pt x="1914" y="1962"/>
                  </a:lnTo>
                </a:path>
              </a:pathLst>
            </a:custGeom>
            <a:noFill/>
            <a:ln w="57240">
              <a:solidFill>
                <a:srgbClr val="6699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91120" y="2152800"/>
              <a:ext cx="1924200" cy="2990880"/>
            </a:xfrm>
            <a:custGeom>
              <a:avLst/>
              <a:gdLst/>
              <a:ahLst/>
              <a:rect l="l" t="t" r="r" b="b"/>
              <a:pathLst>
                <a:path w="1212" h="1884">
                  <a:moveTo>
                    <a:pt x="0" y="702"/>
                  </a:moveTo>
                  <a:lnTo>
                    <a:pt x="0" y="228"/>
                  </a:lnTo>
                  <a:lnTo>
                    <a:pt x="156" y="228"/>
                  </a:lnTo>
                  <a:lnTo>
                    <a:pt x="612" y="0"/>
                  </a:lnTo>
                  <a:lnTo>
                    <a:pt x="714" y="0"/>
                  </a:lnTo>
                  <a:lnTo>
                    <a:pt x="714" y="558"/>
                  </a:lnTo>
                  <a:lnTo>
                    <a:pt x="1212" y="912"/>
                  </a:lnTo>
                  <a:lnTo>
                    <a:pt x="720" y="1668"/>
                  </a:lnTo>
                  <a:lnTo>
                    <a:pt x="720" y="1884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80040" y="4416480"/>
              <a:ext cx="180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BF8-5EEE-4BEE-A00F-3B14C5CA5B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ศัพท์เกี่ยวกับระบบเครือข่าย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ขนาดของ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packet (packet length)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Delay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ในการรับส่งข้อมูล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(packet delay)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การสูญหายของข้อมูล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(packet loss)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A7B-F7FB-44DE-BC82-F91F3E6877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ภาพรวมของระบบ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90920" y="2133720"/>
          <a:ext cx="395604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133720"/>
                    <a:ext cx="395604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5A9-F23C-487B-ABF7-B072E865EC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700" spc="-1" strike="noStrike">
                <a:solidFill>
                  <a:srgbClr val="330066"/>
                </a:solidFill>
                <a:latin typeface="Browallia New"/>
              </a:rPr>
              <a:t>เวลาที่ใช้ในการส่งข้อมูล</a:t>
            </a:r>
            <a:endParaRPr b="1" lang="en-US" sz="57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400" spc="-1" strike="noStrike">
                <a:solidFill>
                  <a:srgbClr val="000000"/>
                </a:solidFill>
                <a:latin typeface="Browallia New"/>
              </a:rPr>
              <a:t>เวลาที่ใช้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= propagation delay + transmission delay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691640" y="2438280"/>
            <a:ext cx="6006240" cy="2176200"/>
            <a:chOff x="1691640" y="2438280"/>
            <a:chExt cx="6006240" cy="2176200"/>
          </a:xfrm>
        </p:grpSpPr>
        <p:pic>
          <p:nvPicPr>
            <p:cNvPr id="696" name="" descr=""/>
            <p:cNvPicPr/>
            <p:nvPr/>
          </p:nvPicPr>
          <p:blipFill>
            <a:blip r:embed="rId1"/>
            <a:stretch/>
          </p:blipFill>
          <p:spPr>
            <a:xfrm>
              <a:off x="2343240" y="362880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3384720" y="3387600"/>
              <a:ext cx="1198800" cy="370080"/>
            </a:xfrm>
            <a:prstGeom prst="ellipse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720" y="3319200"/>
              <a:ext cx="1198800" cy="26352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94440" y="3090600"/>
              <a:ext cx="1198440" cy="430560"/>
            </a:xfrm>
            <a:prstGeom prst="ellipse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740400" y="3120840"/>
              <a:ext cx="497160" cy="118800"/>
              <a:chOff x="3740400" y="3120840"/>
              <a:chExt cx="497160" cy="1188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740400" y="3122280"/>
                <a:ext cx="497160" cy="117360"/>
                <a:chOff x="3740400" y="3122280"/>
                <a:chExt cx="497160" cy="117360"/>
              </a:xfrm>
            </p:grpSpPr>
            <p:sp>
              <p:nvSpPr>
                <p:cNvPr id="702" name=""/>
                <p:cNvSpPr/>
                <p:nvPr/>
              </p:nvSpPr>
              <p:spPr>
                <a:xfrm flipV="1">
                  <a:off x="3740400" y="312228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081320" y="323964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903840" y="312444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3740400" y="3120840"/>
                <a:ext cx="497160" cy="117360"/>
                <a:chOff x="3740400" y="3120840"/>
                <a:chExt cx="497160" cy="1173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740400" y="323604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081320" y="312084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3903840" y="312120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9" name=""/>
            <p:cNvSpPr/>
            <p:nvPr/>
          </p:nvSpPr>
          <p:spPr>
            <a:xfrm>
              <a:off x="6480360" y="3406680"/>
              <a:ext cx="1198800" cy="369720"/>
            </a:xfrm>
            <a:prstGeom prst="ellipse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90080" y="33861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90080" y="3348000"/>
              <a:ext cx="1198440" cy="263520"/>
            </a:xfrm>
            <a:prstGeom prst="rect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99440" y="3119400"/>
              <a:ext cx="1198440" cy="430200"/>
            </a:xfrm>
            <a:prstGeom prst="ellipse">
              <a:avLst/>
            </a:pr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3" name="" descr=""/>
            <p:cNvPicPr/>
            <p:nvPr/>
          </p:nvPicPr>
          <p:blipFill>
            <a:blip r:embed="rId2"/>
            <a:stretch/>
          </p:blipFill>
          <p:spPr>
            <a:xfrm>
              <a:off x="2028960" y="261936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2654640" y="302580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959200" y="401112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78480" y="344484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59360" y="301608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9080" y="344952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97920" y="3244680"/>
              <a:ext cx="147600" cy="2001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45120" y="3316320"/>
              <a:ext cx="147600" cy="199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07120" y="3316320"/>
              <a:ext cx="147600" cy="1998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192840" y="3216240"/>
              <a:ext cx="147600" cy="199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68880" y="332100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035520" y="359712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269400" y="304488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1640" y="26431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51920" y="3662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99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35640" y="3254400"/>
              <a:ext cx="147600" cy="199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81240" y="28573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678200" y="304488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02760" y="243828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101480" y="271080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128400" y="397188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3411360" y="401616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221360" y="377820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74520" y="422892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4383360" y="377820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6826680" y="3178080"/>
              <a:ext cx="497160" cy="118800"/>
              <a:chOff x="6826680" y="3178080"/>
              <a:chExt cx="497160" cy="1188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6826680" y="3179520"/>
                <a:ext cx="497160" cy="117360"/>
                <a:chOff x="6826680" y="3179520"/>
                <a:chExt cx="497160" cy="117360"/>
              </a:xfrm>
            </p:grpSpPr>
            <p:sp>
              <p:nvSpPr>
                <p:cNvPr id="740" name=""/>
                <p:cNvSpPr/>
                <p:nvPr/>
              </p:nvSpPr>
              <p:spPr>
                <a:xfrm flipV="1">
                  <a:off x="6826680" y="317952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167600" y="32968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990120" y="318168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6826680" y="3178080"/>
                <a:ext cx="497160" cy="117360"/>
                <a:chOff x="6826680" y="3178080"/>
                <a:chExt cx="497160" cy="11736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6826680" y="329328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167600" y="31780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6990120" y="317844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8FC-E36C-45D8-AE37-43F83EDB4F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700" spc="-1" strike="noStrike">
                <a:solidFill>
                  <a:srgbClr val="330066"/>
                </a:solidFill>
                <a:latin typeface="Browallia New"/>
              </a:rPr>
              <a:t>การประเมินการล่าช้า</a:t>
            </a:r>
            <a:endParaRPr b="1" lang="en-US" sz="47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Browallia New"/>
              </a:rPr>
              <a:t>Transmission delay: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4840" indent="-29484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R=link bandwidth (bps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4840" indent="-29484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L=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ขนาด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packet (bits)]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48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4840" indent="-29484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Transmission delay = L/R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152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Browallia New"/>
              </a:rPr>
              <a:t>Propagation delay: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d =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ความยาว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physical link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 = propagation speed in medium (~2x10</a:t>
            </a:r>
            <a:r>
              <a:rPr b="0" lang="en-US" sz="3400" spc="-1" strike="noStrike" baseline="30000">
                <a:solidFill>
                  <a:srgbClr val="000000"/>
                </a:solidFill>
                <a:latin typeface="Browallia New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m/sec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propagation delay = d/s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891-4F24-4B60-BCDD-8AFA7E4159B3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ปัญหาของการล่าช้าและการสูญหาย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1854360" y="3975120"/>
            <a:ext cx="645840" cy="5335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2895480" y="3733920"/>
            <a:ext cx="1198800" cy="369720"/>
          </a:xfrm>
          <a:prstGeom prst="ellipse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895480" y="3665520"/>
            <a:ext cx="1198800" cy="26352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905200" y="3436920"/>
            <a:ext cx="1198440" cy="430200"/>
          </a:xfrm>
          <a:prstGeom prst="ellipse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251160" y="3467160"/>
            <a:ext cx="497160" cy="118800"/>
            <a:chOff x="3251160" y="3467160"/>
            <a:chExt cx="497160" cy="118800"/>
          </a:xfrm>
        </p:grpSpPr>
        <p:grpSp>
          <p:nvGrpSpPr>
            <p:cNvPr id="756" name=""/>
            <p:cNvGrpSpPr/>
            <p:nvPr/>
          </p:nvGrpSpPr>
          <p:grpSpPr>
            <a:xfrm>
              <a:off x="3251160" y="3468600"/>
              <a:ext cx="497160" cy="117360"/>
              <a:chOff x="3251160" y="3468600"/>
              <a:chExt cx="497160" cy="117360"/>
            </a:xfrm>
          </p:grpSpPr>
          <p:sp>
            <p:nvSpPr>
              <p:cNvPr id="757" name=""/>
              <p:cNvSpPr/>
              <p:nvPr/>
            </p:nvSpPr>
            <p:spPr>
              <a:xfrm flipV="1">
                <a:off x="3251160" y="346860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592080" y="358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14600" y="347076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251160" y="3467160"/>
              <a:ext cx="497160" cy="117360"/>
              <a:chOff x="3251160" y="3467160"/>
              <a:chExt cx="497160" cy="117360"/>
            </a:xfrm>
          </p:grpSpPr>
          <p:sp>
            <p:nvSpPr>
              <p:cNvPr id="761" name=""/>
              <p:cNvSpPr/>
              <p:nvPr/>
            </p:nvSpPr>
            <p:spPr>
              <a:xfrm>
                <a:off x="3251160" y="3582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592080" y="34671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3414600" y="346752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"/>
          <p:cNvSpPr/>
          <p:nvPr/>
        </p:nvSpPr>
        <p:spPr>
          <a:xfrm>
            <a:off x="5991120" y="3753000"/>
            <a:ext cx="1198800" cy="369720"/>
          </a:xfrm>
          <a:prstGeom prst="ellipse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000840" y="373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000840" y="3693960"/>
            <a:ext cx="1198440" cy="26352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010200" y="3465360"/>
            <a:ext cx="1198800" cy="430200"/>
          </a:xfrm>
          <a:prstGeom prst="ellipse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539720" y="296532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2165400" y="337176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470320" y="4357440"/>
            <a:ext cx="1951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89240" y="379080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670120" y="3362400"/>
            <a:ext cx="0" cy="100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3795840"/>
            <a:ext cx="19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55880" y="3662280"/>
            <a:ext cx="147960" cy="200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917880" y="3662280"/>
            <a:ext cx="147600" cy="20016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703600" y="3562200"/>
            <a:ext cx="147600" cy="200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79640" y="3666960"/>
            <a:ext cx="24300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546280" y="394308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202400" y="29894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62680" y="40086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46400" y="3600360"/>
            <a:ext cx="147600" cy="200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141440" y="2136600"/>
            <a:ext cx="4211280" cy="1454400"/>
            <a:chOff x="4141440" y="2136600"/>
            <a:chExt cx="4211280" cy="1454400"/>
          </a:xfrm>
        </p:grpSpPr>
        <p:sp>
          <p:nvSpPr>
            <p:cNvPr id="783" name=""/>
            <p:cNvSpPr/>
            <p:nvPr/>
          </p:nvSpPr>
          <p:spPr>
            <a:xfrm>
              <a:off x="4695840" y="2136600"/>
              <a:ext cx="365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cket being transmitted 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141440" y="2460600"/>
              <a:ext cx="168084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3893760" y="3920760"/>
            <a:ext cx="3498840" cy="806760"/>
            <a:chOff x="3893760" y="3920760"/>
            <a:chExt cx="3498840" cy="806760"/>
          </a:xfrm>
        </p:grpSpPr>
        <p:sp>
          <p:nvSpPr>
            <p:cNvPr id="786" name=""/>
            <p:cNvSpPr/>
            <p:nvPr/>
          </p:nvSpPr>
          <p:spPr>
            <a:xfrm>
              <a:off x="4535640" y="4359240"/>
              <a:ext cx="28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ckets queueing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 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>
              <a:off x="3893760" y="3920760"/>
              <a:ext cx="74772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337440" y="3524040"/>
            <a:ext cx="497160" cy="118800"/>
            <a:chOff x="6337440" y="3524040"/>
            <a:chExt cx="497160" cy="118800"/>
          </a:xfrm>
        </p:grpSpPr>
        <p:grpSp>
          <p:nvGrpSpPr>
            <p:cNvPr id="789" name=""/>
            <p:cNvGrpSpPr/>
            <p:nvPr/>
          </p:nvGrpSpPr>
          <p:grpSpPr>
            <a:xfrm>
              <a:off x="6337440" y="3525840"/>
              <a:ext cx="497160" cy="117000"/>
              <a:chOff x="6337440" y="3525840"/>
              <a:chExt cx="497160" cy="117000"/>
            </a:xfrm>
          </p:grpSpPr>
          <p:sp>
            <p:nvSpPr>
              <p:cNvPr id="790" name=""/>
              <p:cNvSpPr/>
              <p:nvPr/>
            </p:nvSpPr>
            <p:spPr>
              <a:xfrm flipV="1">
                <a:off x="6337440" y="3525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78360" y="36428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500880" y="352800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37440" y="3524040"/>
              <a:ext cx="497160" cy="117000"/>
              <a:chOff x="6337440" y="3524040"/>
              <a:chExt cx="497160" cy="117000"/>
            </a:xfrm>
          </p:grpSpPr>
          <p:sp>
            <p:nvSpPr>
              <p:cNvPr id="794" name=""/>
              <p:cNvSpPr/>
              <p:nvPr/>
            </p:nvSpPr>
            <p:spPr>
              <a:xfrm>
                <a:off x="6337440" y="36388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78360" y="35240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500880" y="352440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7" name=""/>
          <p:cNvSpPr/>
          <p:nvPr/>
        </p:nvSpPr>
        <p:spPr>
          <a:xfrm>
            <a:off x="2228760" y="3090960"/>
            <a:ext cx="147600" cy="19980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359080" y="3197160"/>
            <a:ext cx="2430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00200" y="4121280"/>
            <a:ext cx="147600" cy="1998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616200" y="3662280"/>
            <a:ext cx="14760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476520" y="3662280"/>
            <a:ext cx="14760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36840" y="3662280"/>
            <a:ext cx="14760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3141720" y="3882600"/>
            <a:ext cx="4484520" cy="1513080"/>
            <a:chOff x="3141720" y="3882600"/>
            <a:chExt cx="4484520" cy="1513080"/>
          </a:xfrm>
        </p:grpSpPr>
        <p:sp>
          <p:nvSpPr>
            <p:cNvPr id="804" name=""/>
            <p:cNvSpPr/>
            <p:nvPr/>
          </p:nvSpPr>
          <p:spPr>
            <a:xfrm flipV="1">
              <a:off x="3409200" y="3882600"/>
              <a:ext cx="1666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41720" y="4753080"/>
              <a:ext cx="44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ee (available) buffers: arriving packe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ropped (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os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if no free buff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D8B-916D-48DF-919C-5DB1844E13F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บทสรุป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องค์ประกอบของคอมพิวเตอร์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CPU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Memory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Disk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Network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BD5-50A7-4BB3-A8FA-08093FE23B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รูปแบบอื่นๆ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Dedicated Memory Bus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AGP (Accelerated Graphics Port)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Workstation / Mainframe / PC.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Parallel Computing.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2FD-66BC-49C6-87AD-4BE0D6F6BF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PU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ingle Processor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Multi-Processor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Co-Processor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Floating-Point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Network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92280" indent="-34776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Graphic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2743200" cy="16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6A4-97C7-4121-B9E0-4E5C3DC5A2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โครงสร้าง </a:t>
            </a: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PU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0" y="1523880"/>
          <a:ext cx="43592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359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F31-3120-467E-8AF4-8CDBF8BBFD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Instruction Cycle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c = 0;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r := memory[pc++]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Fetch the instruction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ode(i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Decode the instruction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tch(operands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Fetch the operands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ut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Execute the instruction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re(results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store the results. }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while(ir != HALT);</a:t>
            </a:r>
            <a:endParaRPr b="0" lang="en-US" sz="1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CF2-51E9-4D92-A099-E9B5E2C154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Pipelining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เพิ่มความสามารถในการทำงานของ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CPU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แบ่งการทำงา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1 cycle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เป็น “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tages”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แต่ละ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tage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จะทำงานอย่างเป็นอิสระต่อกัน และพร้อมๆกัน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Pipelining is natural !!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from David Patterson’s lecture note.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445-4D83-498C-8BF1-0E3A3E6C5A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914400" y="762120"/>
          <a:ext cx="7297560" cy="52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297560" cy="52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ความรู้เบื้องต้นของการประเมิน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BA6-7A06-4EEC-900E-4ED95AAD0C9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8:44:32Z</dcterms:created>
  <dc:creator>Natawut Nupairoj</dc:creator>
  <dc:description/>
  <dc:language>en-US</dc:language>
  <cp:lastModifiedBy>Natawut Nupairoj</cp:lastModifiedBy>
  <dcterms:modified xsi:type="dcterms:W3CDTF">2003-11-10T17:18:01Z</dcterms:modified>
  <cp:revision>20</cp:revision>
  <dc:subject/>
  <dc:title>ความรู้เบื้องต้นเกี่ยวกับ การประเมินสมรรถภาพ</dc:title>
</cp:coreProperties>
</file>